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39A-841F-48EE-B85E-79291601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59D-EF6A-4B23-847B-29B9DA90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C86-28BE-4690-8E82-D44FFF63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7A2-8D2F-4ED5-B964-C5918BBA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00E-2897-4D8D-A04A-9A43C616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A24-3E92-404C-AD53-511DD52E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587-F0EB-4331-BB87-E71D3BAB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141-0948-4762-B69D-BADDC296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32D-C768-40B1-A5FC-BF7495CD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3D8-2E17-4EEF-BD5D-64D37CC6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087-19F4-4436-9045-ABAB14A8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490-3A0A-4D4E-8051-502538E3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0ABA-18F1-47A0-9563-BD4F33559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milia Kapcia, Nina luu , and Kevi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95480" y="2590920"/>
            <a:ext cx="36482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Land in Rus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lots of moutains in Russia and not a lot of land to pl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Ural Mountains,it is harder to travel to eastern and 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lno in Kauchattea Penisula that is part of King of fire (Mt. Elbr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land for farming but it is too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9320" y="228600"/>
            <a:ext cx="6181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ad about land in Rus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10391760" cy="7791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people adapted to the bad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want to travel to Eastern Russia they could take a plane over the Ural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one of the deepest freshwater lakes so , if something gets into there drinking water , they could drink out of that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ood things about the land in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two plains that are very good for pl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rivers that are navig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navigatable rivers tourists can in and ou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400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’s land is good in many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because it is very good cold, Russians cant use it as much for growing crops most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the navigable rivers, the Russians can import and ex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because of the cold weather again, it is hard to shop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7:44:50Z</dcterms:created>
  <dc:creator> </dc:creator>
  <dc:description/>
  <dc:language>en-US</dc:language>
  <cp:lastModifiedBy> </cp:lastModifiedBy>
  <dcterms:modified xsi:type="dcterms:W3CDTF">2010-12-15T18:15:54Z</dcterms:modified>
  <cp:revision>5</cp:revision>
  <dc:subject/>
  <dc:title>LAND IN RUSSIA</dc:title>
</cp:coreProperties>
</file>